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6D66B-795D-4AC0-9232-E5E070A6691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Информатика как нау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EF1E-27AF-4DA6-9842-DDDEBED11A29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66"/>
                </a:solidFill>
                <a:latin typeface="Calibri"/>
              </a:rPr>
              <a:t>Этапы развития информационного обществ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IV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этап – изобретение микропроцессорной технологии и ПК (70-е г.г.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XX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века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3CBB2-C0CC-4819-85FE-C48733413342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Calibri"/>
              </a:rPr>
              <a:t>Краткая история информати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Calibri"/>
              </a:rPr>
              <a:t>I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половина </a:t>
            </a:r>
            <a:r>
              <a:rPr b="0" lang="en-US" sz="1200" spc="-1" strike="noStrike">
                <a:solidFill>
                  <a:srgbClr val="eeece1"/>
                </a:solidFill>
                <a:latin typeface="Calibri"/>
              </a:rPr>
              <a:t>XIX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ве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Андре Ампер ввел понятие «кибернетика» - наука, занимающаяся изучением искусства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1948 год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берт Вине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бернетика – наука об управлении в живой природе и в технических систем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Calibri"/>
              </a:rPr>
              <a:t>XX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ве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кибернетика – наука об общих закономерностях в управлении и связи в различных системах: искуственных, биологических, социаль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50-е г.г. </a:t>
            </a:r>
            <a:r>
              <a:rPr b="0" lang="en-US" sz="1200" spc="-1" strike="noStrike">
                <a:solidFill>
                  <a:srgbClr val="eeece1"/>
                </a:solidFill>
                <a:latin typeface="Calibri"/>
              </a:rPr>
              <a:t>XX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века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uter Scienc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 - компьютерная нау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60-е г.г. </a:t>
            </a:r>
            <a:r>
              <a:rPr b="0" lang="en-US" sz="1200" spc="-1" strike="noStrike">
                <a:solidFill>
                  <a:srgbClr val="eeece1"/>
                </a:solidFill>
                <a:latin typeface="Calibri"/>
              </a:rPr>
              <a:t>XX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века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ormatiqu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 -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ormation automatique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автома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8FC91-D801-4C89-83C0-E446439463AB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Calibri"/>
              </a:rPr>
              <a:t>Понятие и структура информати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Информатика –</a:t>
            </a: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бласть человеческой деятельности, связанная с процессами преобразования информации с помощью компьютера и их взаимодействие со средой приме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9D851-92A7-4806-9DE1-A59762AC7A3A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Информационное об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Информационное общество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бщество, в котором большинство работающих занято производством, хранением, переработкой и реализацией информации и особенно высшей ее формы – зн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CFA43-3374-4AE6-8E66-FDA28FD8A2FE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Calibri"/>
              </a:rPr>
              <a:t>Черты информационного общест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а проблема информационного кризи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 приоритет информации по сравнению с другими ресурс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ой формой развития является информационная экономи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технология приобретает глобальный характер, охватывая все сферы социальной деятельности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уется информационное единство всей человеческой цивилиз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омощью средств информатики реализован свободный доступ каждого человека к мировым информационным ресурс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2E53D-5741-42B2-A467-0A48283DB396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Calibri"/>
              </a:rPr>
              <a:t>Отрицательные моменты информационного общест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ff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большее влияние на общество оказывают С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ff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технологии могут разрушить частную жизнь люд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ff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проблема отбора качественной и достоверной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ff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ршаются высокотехнологичные преступ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59A36-EFA4-4DA7-BF5F-5E00F6DB1558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66"/>
                </a:solidFill>
                <a:latin typeface="Calibri"/>
              </a:rPr>
              <a:t>Этапы развития информационного обществ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I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этап – изобретение письмен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(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IV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тыс. до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явление средств и методов накопления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CDAEF-1356-4958-974C-A73EB6A16FB7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66"/>
                </a:solidFill>
                <a:latin typeface="Calibri"/>
              </a:rPr>
              <a:t>Этапы развития информационного обществ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II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этап – изобретение    книгопечат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(середина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XVI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века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12BBC-1CBC-4F07-B7EA-29BE1EE7099D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Этапы развития информационного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III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этап – изобретение электричества (конец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XIX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ве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явление средств информационной коммуник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93F49-0FC9-4132-86F7-16A151988104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F731-97F0-48B0-AF48-978639F21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3D53-A523-4BE5-B0F3-DF92DBE1B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3D01-0911-4CD5-B2BE-CCF0E773F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D5BB-9E8B-405F-9141-FC9AEE864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93FDC-2112-4144-8F6A-D5F3CFE00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D6F36-4F02-449A-ABA1-F4D10EF9C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540F1-0578-4A82-ABE0-CB28B2749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057EC-43B2-4ABA-8D66-06AF822B3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924C9-BA19-4CED-9E28-EEC43051E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C361E-655F-4C18-9C83-F1FA955E0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C06C6-4EF9-4BEA-AC61-09CD5CAB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FC40-97D0-40C1-A934-859E2DB72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36937-AB65-4D5F-9DF0-11B09A5B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A6F2C-F4D8-4EE0-9E0D-D07A0A5E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9B9A5-63DE-4EB8-A312-551BEE92A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5F2A8-EB21-4789-BE37-5DAC0E30A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09C3D-EAFE-48DB-817E-9E3CBD7B6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EEB3-ACEA-4EC7-BB23-E7A8EDC7C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FBC2-7AED-436A-B54C-56D6F1445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F2A1-16DB-4DBA-97A5-4677BC8E3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EE20-1CE2-493E-BBAD-26737CFEB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4002-7484-429D-87C7-30199D06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58F1-EF9E-4A1E-B33A-4CE53F29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CA67-E5AC-499B-9BB7-205E42A9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D4DC5-31E1-4380-8BFC-988418EC71D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70007-49C4-4244-A505-EA548DBEF7D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5280" y="2205000"/>
            <a:ext cx="8062920" cy="9367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3399ff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66cc"/>
                </a:solidFill>
                <a:latin typeface="Comic Sans MS"/>
              </a:rPr>
              <a:t>Информатика как наука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806292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Comic Sans MS"/>
              </a:rPr>
              <a:t>Этапы развития информационного обществ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69608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Comic Sans MS"/>
              </a:rPr>
              <a:t>IV </a:t>
            </a:r>
            <a:r>
              <a:rPr b="0" lang="ru-RU" sz="3200" spc="-1" strike="noStrike">
                <a:solidFill>
                  <a:srgbClr val="008080"/>
                </a:solidFill>
                <a:latin typeface="Comic Sans MS"/>
              </a:rPr>
              <a:t>этап – изобретение микропроцессорной технологии и ПК (70-е г.г. </a:t>
            </a:r>
            <a:r>
              <a:rPr b="0" lang="en-US" sz="3200" spc="-1" strike="noStrike">
                <a:solidFill>
                  <a:srgbClr val="008080"/>
                </a:solidFill>
                <a:latin typeface="Comic Sans MS"/>
              </a:rPr>
              <a:t>XX </a:t>
            </a:r>
            <a:r>
              <a:rPr b="0" lang="ru-RU" sz="3200" spc="-1" strike="noStrike">
                <a:solidFill>
                  <a:srgbClr val="008080"/>
                </a:solidFill>
                <a:latin typeface="Comic Sans MS"/>
              </a:rPr>
              <a:t>века)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2" name="Rectangle 30729" descr=""/>
          <p:cNvPicPr/>
          <p:nvPr/>
        </p:nvPicPr>
        <p:blipFill>
          <a:blip r:embed="rId1"/>
          <a:stretch/>
        </p:blipFill>
        <p:spPr>
          <a:xfrm>
            <a:off x="324000" y="2781360"/>
            <a:ext cx="2232000" cy="1954080"/>
          </a:xfrm>
          <a:prstGeom prst="rect">
            <a:avLst/>
          </a:prstGeom>
          <a:ln w="0">
            <a:noFill/>
          </a:ln>
        </p:spPr>
      </p:pic>
      <p:pic>
        <p:nvPicPr>
          <p:cNvPr id="213" name="Rectangle 31753" descr=""/>
          <p:cNvPicPr/>
          <p:nvPr/>
        </p:nvPicPr>
        <p:blipFill>
          <a:blip r:embed="rId2"/>
          <a:stretch/>
        </p:blipFill>
        <p:spPr>
          <a:xfrm>
            <a:off x="6442200" y="2492280"/>
            <a:ext cx="2063520" cy="22320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2916360" y="3284640"/>
            <a:ext cx="14396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ервый ПК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le I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4788000" y="306864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К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BM P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611280" y="4653000"/>
            <a:ext cx="79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оявление персонального компьютера, позволяющего решать проблему хранения и передачи информации на качественно новом уровн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8207280" cy="5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Comic Sans MS"/>
              </a:rPr>
              <a:t>Краткая история информатик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691920"/>
            <a:ext cx="76960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I </a:t>
            </a:r>
            <a:r>
              <a:rPr b="0" lang="ru-RU" sz="2400" spc="-1" strike="noStrike">
                <a:solidFill>
                  <a:srgbClr val="3399ff"/>
                </a:solidFill>
                <a:latin typeface="Comic Sans MS"/>
              </a:rPr>
              <a:t>половина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XIX </a:t>
            </a:r>
            <a:r>
              <a:rPr b="0" lang="ru-RU" sz="2400" spc="-1" strike="noStrike">
                <a:solidFill>
                  <a:srgbClr val="3399ff"/>
                </a:solidFill>
                <a:latin typeface="Comic Sans MS"/>
              </a:rPr>
              <a:t>века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 Андре Ампер ввел понятие «кибернетика» - наука, занимающаяся изучением искусства управле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Comic Sans MS"/>
              </a:rPr>
              <a:t>1948 год –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орберт Винер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ибернетика – наука об управлении в живой природе и в технических системах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XX </a:t>
            </a:r>
            <a:r>
              <a:rPr b="0" lang="ru-RU" sz="2400" spc="-1" strike="noStrike">
                <a:solidFill>
                  <a:srgbClr val="3399ff"/>
                </a:solidFill>
                <a:latin typeface="Comic Sans MS"/>
              </a:rPr>
              <a:t>век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 кибернетика – наука об общих закономерностях в управлении и связи в различных системах: искуственных, биологических, социальных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Comic Sans MS"/>
              </a:rPr>
              <a:t>50-е г.г.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XX </a:t>
            </a:r>
            <a:r>
              <a:rPr b="0" lang="ru-RU" sz="2400" spc="-1" strike="noStrike">
                <a:solidFill>
                  <a:srgbClr val="3399ff"/>
                </a:solidFill>
                <a:latin typeface="Comic Sans MS"/>
              </a:rPr>
              <a:t>века –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uter Science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» - компьютерная нау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Comic Sans MS"/>
              </a:rPr>
              <a:t>60-е г.г.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XX </a:t>
            </a:r>
            <a:r>
              <a:rPr b="0" lang="ru-RU" sz="2400" spc="-1" strike="noStrike">
                <a:solidFill>
                  <a:srgbClr val="3399ff"/>
                </a:solidFill>
                <a:latin typeface="Comic Sans MS"/>
              </a:rPr>
              <a:t>века –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formatique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» -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formation automatique –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нформационная автомати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1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10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4920" y="152280"/>
            <a:ext cx="820908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Comic Sans MS"/>
              </a:rPr>
              <a:t>Понятие и структура информатик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3640" y="1052280"/>
            <a:ext cx="835164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Comic Sans MS"/>
              </a:rPr>
              <a:t>Информатика –</a:t>
            </a:r>
            <a:r>
              <a:rPr b="0" lang="ru-RU" sz="24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это область человеческой деятельности, связанная с процессами преобразования информации с помощью компьютера и их взаимодействие со средой примене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5" name="Group 30"/>
          <p:cNvGrpSpPr/>
          <p:nvPr/>
        </p:nvGrpSpPr>
        <p:grpSpPr>
          <a:xfrm>
            <a:off x="250920" y="2997360"/>
            <a:ext cx="8607240" cy="3025080"/>
            <a:chOff x="250920" y="2997360"/>
            <a:chExt cx="8607240" cy="3025080"/>
          </a:xfrm>
        </p:grpSpPr>
        <p:sp>
          <p:nvSpPr>
            <p:cNvPr id="166" name="AutoShape 19"/>
            <p:cNvSpPr/>
            <p:nvPr/>
          </p:nvSpPr>
          <p:spPr>
            <a:xfrm>
              <a:off x="3276720" y="2997360"/>
              <a:ext cx="2663640" cy="79164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Информатика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AutoShape 20"/>
            <p:cNvSpPr/>
            <p:nvPr/>
          </p:nvSpPr>
          <p:spPr>
            <a:xfrm>
              <a:off x="250920" y="3644640"/>
              <a:ext cx="2305080" cy="108072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Теоретическая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информатика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AutoShape 21"/>
            <p:cNvSpPr/>
            <p:nvPr/>
          </p:nvSpPr>
          <p:spPr>
            <a:xfrm>
              <a:off x="900000" y="4868640"/>
              <a:ext cx="2232000" cy="115200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Вычислительная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техника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" name="AutoShape 22"/>
            <p:cNvSpPr/>
            <p:nvPr/>
          </p:nvSpPr>
          <p:spPr>
            <a:xfrm>
              <a:off x="3348000" y="4868640"/>
              <a:ext cx="2305080" cy="115200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Программирование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" name="AutoShape 23"/>
            <p:cNvSpPr/>
            <p:nvPr/>
          </p:nvSpPr>
          <p:spPr>
            <a:xfrm>
              <a:off x="5867280" y="4941720"/>
              <a:ext cx="2303640" cy="108072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Информационные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системы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" name="AutoShape 24"/>
            <p:cNvSpPr/>
            <p:nvPr/>
          </p:nvSpPr>
          <p:spPr>
            <a:xfrm>
              <a:off x="6732720" y="3644640"/>
              <a:ext cx="2125440" cy="108072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Искусственный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интеллект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" name="Line 25"/>
            <p:cNvSpPr/>
            <p:nvPr/>
          </p:nvSpPr>
          <p:spPr>
            <a:xfrm flipH="1">
              <a:off x="1332000" y="3357360"/>
              <a:ext cx="1944720" cy="286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" name="Line 26"/>
            <p:cNvSpPr/>
            <p:nvPr/>
          </p:nvSpPr>
          <p:spPr>
            <a:xfrm flipH="1">
              <a:off x="2340000" y="3789000"/>
              <a:ext cx="1727280" cy="1079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>
              <a:off x="4572000" y="3789000"/>
              <a:ext cx="0" cy="1079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" name="Line 28"/>
            <p:cNvSpPr/>
            <p:nvPr/>
          </p:nvSpPr>
          <p:spPr>
            <a:xfrm>
              <a:off x="5219640" y="3789000"/>
              <a:ext cx="1513080" cy="1152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" name="Line 29"/>
            <p:cNvSpPr/>
            <p:nvPr/>
          </p:nvSpPr>
          <p:spPr>
            <a:xfrm>
              <a:off x="5940360" y="3357360"/>
              <a:ext cx="1944720" cy="286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7" name="Місце для нижнього колонтитула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98984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Comic Sans MS"/>
              </a:rPr>
              <a:t>Информационное обществ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6960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Comic Sans MS"/>
              </a:rPr>
              <a:t>Информационное общество –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это общество, в котором большинство работающих занято производством, хранением, переработкой и реализацией информации и особенно высшей ее формы – знани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98984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Comic Sans MS"/>
              </a:rPr>
              <a:t>Черты информационного обществ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55640" y="907920"/>
            <a:ext cx="7848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ешена проблема информационного кризис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беспечен приоритет информации по сравнению с другими ресурсам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лавной формой развития является информационная экономик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нформационная технология приобретает глобальный характер, охватывая все сферы социальной деятельности человек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формируется информационное единство всей человеческой цивилизаци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 помощью средств информатики реализован свободный доступ каждого человека к мировым информационным ресурса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827892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Comic Sans MS"/>
              </a:rPr>
              <a:t>Отрицательные моменты информационного обществ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7738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се большее влияние на общество оказывают СМИ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нформационные технологии могут разрушить частную жизнь людей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уществует проблема отбора качественной и достоверной информации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овершаются высокотехнологичные преступле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91856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Comic Sans MS"/>
              </a:rPr>
              <a:t>Этапы развития информационного обществ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064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Comic Sans MS"/>
              </a:rPr>
              <a:t>I </a:t>
            </a:r>
            <a:r>
              <a:rPr b="0" lang="ru-RU" sz="3200" spc="-1" strike="noStrike">
                <a:solidFill>
                  <a:srgbClr val="008080"/>
                </a:solidFill>
                <a:latin typeface="Comic Sans MS"/>
              </a:rPr>
              <a:t>этап – изобретение письменност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008080"/>
                </a:solidFill>
                <a:latin typeface="Comic Sans MS"/>
              </a:rPr>
              <a:t>IV </a:t>
            </a:r>
            <a:r>
              <a:rPr b="0" lang="ru-RU" sz="3200" spc="-1" strike="noStrike">
                <a:solidFill>
                  <a:srgbClr val="008080"/>
                </a:solidFill>
                <a:latin typeface="Comic Sans MS"/>
              </a:rPr>
              <a:t>тыс. до н.э.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явление средств и методов накопления информаци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6300720" y="2349360"/>
            <a:ext cx="2438640" cy="16574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3311640" cy="165564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806292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Comic Sans MS"/>
              </a:rPr>
              <a:t>Этапы развития информационного обществ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6960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Comic Sans MS"/>
              </a:rPr>
              <a:t>             </a:t>
            </a:r>
            <a:r>
              <a:rPr b="0" lang="en-US" sz="3200" spc="-1" strike="noStrike">
                <a:solidFill>
                  <a:srgbClr val="008080"/>
                </a:solidFill>
                <a:latin typeface="Comic Sans MS"/>
              </a:rPr>
              <a:t>II </a:t>
            </a:r>
            <a:r>
              <a:rPr b="0" lang="ru-RU" sz="3200" spc="-1" strike="noStrike">
                <a:solidFill>
                  <a:srgbClr val="008080"/>
                </a:solidFill>
                <a:latin typeface="Comic Sans MS"/>
              </a:rPr>
              <a:t>этап – изобретение    книгопечатания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Comic Sans MS"/>
              </a:rPr>
              <a:t>          </a:t>
            </a:r>
            <a:r>
              <a:rPr b="0" lang="ru-RU" sz="3200" spc="-1" strike="noStrike">
                <a:solidFill>
                  <a:srgbClr val="008080"/>
                </a:solidFill>
                <a:latin typeface="Comic Sans MS"/>
              </a:rPr>
              <a:t>(середина </a:t>
            </a:r>
            <a:r>
              <a:rPr b="0" lang="en-US" sz="3200" spc="-1" strike="noStrike">
                <a:solidFill>
                  <a:srgbClr val="008080"/>
                </a:solidFill>
                <a:latin typeface="Comic Sans MS"/>
              </a:rPr>
              <a:t>XVI </a:t>
            </a:r>
            <a:r>
              <a:rPr b="0" lang="ru-RU" sz="3200" spc="-1" strike="noStrike">
                <a:solidFill>
                  <a:srgbClr val="008080"/>
                </a:solidFill>
                <a:latin typeface="Comic Sans MS"/>
              </a:rPr>
              <a:t>века)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Picture 4" descr="Гуттенберг"/>
          <p:cNvPicPr/>
          <p:nvPr/>
        </p:nvPicPr>
        <p:blipFill>
          <a:blip r:embed="rId1"/>
          <a:stretch/>
        </p:blipFill>
        <p:spPr>
          <a:xfrm>
            <a:off x="324000" y="1341360"/>
            <a:ext cx="2395440" cy="309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5" name="Picture 5" descr="печатн станок"/>
          <p:cNvPicPr/>
          <p:nvPr/>
        </p:nvPicPr>
        <p:blipFill>
          <a:blip r:embed="rId2"/>
          <a:stretch/>
        </p:blipFill>
        <p:spPr>
          <a:xfrm>
            <a:off x="6227640" y="3141720"/>
            <a:ext cx="2459160" cy="3024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6"/>
          <p:cNvSpPr/>
          <p:nvPr/>
        </p:nvSpPr>
        <p:spPr>
          <a:xfrm>
            <a:off x="324000" y="4581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Иоганнс Гуттенберг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2916360" y="3357720"/>
            <a:ext cx="3384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явление качественно нового способа хранения информаци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000" y="151920"/>
            <a:ext cx="8351640" cy="3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Comic Sans MS"/>
              </a:rPr>
              <a:t>Этапы развития информационного обществ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62028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III </a:t>
            </a:r>
            <a:r>
              <a:rPr b="0" lang="ru-RU" sz="2800" spc="-1" strike="noStrike">
                <a:solidFill>
                  <a:srgbClr val="008080"/>
                </a:solidFill>
                <a:latin typeface="Comic Sans MS"/>
              </a:rPr>
              <a:t>этап – изобретение электричества (конец 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XIX </a:t>
            </a:r>
            <a:r>
              <a:rPr b="0" lang="ru-RU" sz="2800" spc="-1" strike="noStrike">
                <a:solidFill>
                  <a:srgbClr val="008080"/>
                </a:solidFill>
                <a:latin typeface="Comic Sans MS"/>
              </a:rPr>
              <a:t>века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явление средств информационной коммуникаци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1332000" y="1557360"/>
            <a:ext cx="3816360" cy="27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Times New Roman"/>
              </a:rPr>
              <a:t>Телеграф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был  изобретен  в  1837 году  двумя   англичанами   К. Бетстоном  и  Б. Куком.  Более современный телеграф появился в Америке. Его создал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эмюэль Морз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в 1838 году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7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1876 году другой американец,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лександр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эл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изобрел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</a:rPr>
              <a:t>телефон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В 1884 году телефонная кампания Бэлла протянула первую длинную телефонную линию от Нью-Йорка до Фестона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Picture 5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869760" cy="1297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03" name="Text Box 6"/>
          <p:cNvSpPr/>
          <p:nvPr/>
        </p:nvSpPr>
        <p:spPr>
          <a:xfrm>
            <a:off x="252720" y="465300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лександр Бэл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4" name="Picture 7" descr=""/>
          <p:cNvPicPr/>
          <p:nvPr/>
        </p:nvPicPr>
        <p:blipFill>
          <a:blip r:embed="rId2"/>
          <a:stretch/>
        </p:blipFill>
        <p:spPr>
          <a:xfrm>
            <a:off x="324000" y="3357720"/>
            <a:ext cx="923760" cy="1295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05" name="Text Box 8"/>
          <p:cNvSpPr/>
          <p:nvPr/>
        </p:nvSpPr>
        <p:spPr>
          <a:xfrm>
            <a:off x="179280" y="263700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эмюэль Морз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5076720" y="2565360"/>
            <a:ext cx="35308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7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стоящей революцией в истории распространения информации стало изобретение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</a:rPr>
              <a:t>радио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io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– по латыни означает испускающий лучи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97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5 апреля 1895 года А. С. Попов (1859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06), применив антенну, демонстрировал свой «грозоотметчик» – первый в мире радиоприемник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Picture 10" descr=""/>
          <p:cNvPicPr/>
          <p:nvPr/>
        </p:nvPicPr>
        <p:blipFill>
          <a:blip r:embed="rId3"/>
          <a:stretch/>
        </p:blipFill>
        <p:spPr>
          <a:xfrm>
            <a:off x="5867280" y="1197000"/>
            <a:ext cx="1006560" cy="1297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08" name="Text Box 11"/>
          <p:cNvSpPr/>
          <p:nvPr/>
        </p:nvSpPr>
        <p:spPr>
          <a:xfrm>
            <a:off x="7020360" y="206064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. С. Попо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9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2T11:10:16Z</dcterms:created>
  <dc:creator>User</dc:creator>
  <dc:description/>
  <dc:language>en-US</dc:language>
  <cp:lastModifiedBy>LEGION</cp:lastModifiedBy>
  <dcterms:modified xsi:type="dcterms:W3CDTF">2015-04-01T07:32:35Z</dcterms:modified>
  <cp:revision>6</cp:revision>
  <dc:subject/>
  <dc:title>Информатика как наука.   Информационное общество.</dc:title>
</cp:coreProperties>
</file>